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D9D1-9033-4032-A8C2-1595BEE872E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C59C-3C7D-4093-A9B5-CC714D9149D3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A5D1-3D64-485F-BF4D-FCFDDC6A49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EC89-70DF-41B2-8A24-93578750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E15B-EAC6-4D02-85C5-2AA41220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9AF2-7AF3-4522-9705-73A1614C20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04B5-310F-4B49-80F3-D5B5B4E8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6E96-EC6E-4EF2-B20B-C35D9078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1E21-1D99-42FC-8C82-D2552024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A4A3-7CC7-423B-B16C-3444D77FE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A836-C0F0-42B2-9421-ED9C40D4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98DF-2F2C-4714-999A-43E5478F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648B-04EF-4CD8-B23A-A516AC47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2338-C7F7-46A4-8211-9ABD5C9D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F46A-F154-4E6A-934C-56C365030B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途径：鼻胃管、鼻肠管、经胃造瘘或空肠造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机械并发症：包括造瘘管滑脱及堵塞、鼻咽部和食管黏膜损伤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导管性脓毒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食管癌，拟行手术治疗，术前因营养不良先予营养支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目前适宜的营养支持方法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什么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可能出现哪些并发症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              ③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与患者咽反射消失、管道位置不好、一次喂入过多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与胃管刺激、黏膜干燥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与营养液的配方、浓度、温度、输注速度、置管位置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感染、高糖血症和低糖血症、水电解质失衡、高渗性非酮性昏迷、肝功能损害、空气栓塞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说出肠内营养、肠外营养、完全胃肠外营养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临床常用的营养评估指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肠内与肠外营养支持的优缺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肠内与肠外营养支持常见并发症的发生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营养导管在位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过程中应严格遵守无菌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不要在配好的静脉营养液中添加任何成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导管性脓毒症发生，应及时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取头低脚高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以适当的速度输入静脉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随时监测血糖水平，保持血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.67~8.89 mmol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尿糖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±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＋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怀疑低血糖时，可让患者口服或遵医嘱静脉推注葡萄糖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现高渗性非酮性昏迷时，应停输葡萄糖溶液或含有高糖的营养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相关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情况：有无脱水、水肿，有无发热、黄疸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了解患者对营养支持的反应，如体重、血浆蛋白水平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并记录出入量，监测血糖水平、血清电解质水平、血气分析、肝肾功能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支持的基本原则：凡胃肠道功能正常或存在部分胃肠道功能者，在营养支持时应首选肠内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状况评估：应综合病史、体格检查、实验室检查等诸多方面，不同的评价指标反映的营养问题可不相同，故应综合多方面因素进行判断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内营养支持的并发症：包括机械性、代谢性和胃肠道并发症。应加强腹泻及误吸的观察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肠外营养支持的并发症：包括技术性和代谢并发症以及导管性脓毒症。应加强空气栓塞、高渗性非酮性昏迷、导管性脓毒症的观察和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1052640"/>
            <a:ext cx="878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出现进食哽噎感，进食干硬食物难以下咽，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症状较前明显加重，进半流食也出现吞咽困难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70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4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下肢可见凹陷性水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白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3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5 m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患者可能出现毛发脱落、指甲无光、皮肤干燥、肝大、心界缩小、肌力减弱、水肿或腹水等情况，应重点检查，并注意与其他疾病相鉴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=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身高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理想值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~23.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消瘦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超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人体测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细胞总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了解患者疾病史、手术史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还要注意患者的膳食习惯及近期进食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5-08-11T03:19:36Z</dcterms:modified>
  <cp:revision>97</cp:revision>
  <dc:subject/>
  <dc:title>内科护理学</dc:title>
</cp:coreProperties>
</file>